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FFE-C11C-45F4-8DBA-B3594AA5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1F4-4938-44D3-B583-6B7CCCE0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83B-2466-4CDD-B1EF-7EB8191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E62-BBC7-4E00-80CD-64E2BD6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EB6-A39D-4C4E-B3A6-69EC8ABC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5F1-DEC1-43A8-90ED-44270AAB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D20-B7A7-462D-B510-01B48EC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253-2E05-4E46-BEDA-24AEB27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CE8-6760-4684-8FEA-DF16D8B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77A-63A2-4B9B-9ABB-E4DC323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126-B866-4956-A518-3C0741F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729-06C5-4CCD-9F33-8A321381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56E-2025-4CEA-AAB4-8F8E45419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Using Area Models for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factor tri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to factor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9144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 is the product in our problem. It is also the area in our area model. Our goal is to find the factors or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981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find our factors or the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e will build the area in thi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952880" y="3505320"/>
            <a:ext cx="301680" cy="1977840"/>
            <a:chOff x="4952880" y="3505320"/>
            <a:chExt cx="301680" cy="1977840"/>
          </a:xfrm>
        </p:grpSpPr>
        <p:sp>
          <p:nvSpPr>
            <p:cNvPr id="56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2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60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257800" y="3505320"/>
            <a:ext cx="2282760" cy="1977840"/>
            <a:chOff x="5257800" y="3505320"/>
            <a:chExt cx="2282760" cy="1977840"/>
          </a:xfrm>
        </p:grpSpPr>
        <p:sp>
          <p:nvSpPr>
            <p:cNvPr id="6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792760" y="434196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792760" y="46465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432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48769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432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38880" y="51814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4920" y="3200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 our dimensions are (x + 2) and (x + 3).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here is the solution to the original problem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5x + 6 = (x + 2)(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79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212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. Here is how we would make an area model to factor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144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is the product in our problem. It is also the area in our area model. Our goal is to find the factors or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81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find our factors or the dimensions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64911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e will build the area in thi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20040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 our dimensions are (x + 4) and (2x + 3).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here is the solution to the original problem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2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11x + 1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= (x + 4)(2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257800" y="3505320"/>
            <a:ext cx="3654360" cy="2587680"/>
            <a:chOff x="5257800" y="3505320"/>
            <a:chExt cx="3654360" cy="2587680"/>
          </a:xfrm>
        </p:grpSpPr>
        <p:sp>
          <p:nvSpPr>
            <p:cNvPr id="92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257800" y="3505320"/>
              <a:ext cx="3654360" cy="2587680"/>
              <a:chOff x="5257800" y="3505320"/>
              <a:chExt cx="3654360" cy="2587680"/>
            </a:xfrm>
          </p:grpSpPr>
          <p:sp>
            <p:nvSpPr>
              <p:cNvPr id="94" name=""/>
              <p:cNvSpPr/>
              <p:nvPr/>
            </p:nvSpPr>
            <p:spPr>
              <a:xfrm>
                <a:off x="52578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0100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104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57927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57927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8001000" y="4876920"/>
                <a:ext cx="911160" cy="606240"/>
                <a:chOff x="8001000" y="4876920"/>
                <a:chExt cx="911160" cy="606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61048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0100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30592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61048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001000" y="518148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305920" y="487692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6629400" y="3505320"/>
                <a:ext cx="137160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57927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57927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7164360" y="43419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7164360" y="46465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7164360" y="495144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7164360" y="525636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8001000" y="5486400"/>
                <a:ext cx="911160" cy="606240"/>
                <a:chOff x="8001000" y="5486400"/>
                <a:chExt cx="911160" cy="606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861048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0100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30592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61048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01000" y="579096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305920" y="5486400"/>
                  <a:ext cx="301680" cy="301680"/>
                </a:xfrm>
                <a:prstGeom prst="rect">
                  <a:avLst/>
                </a:prstGeom>
                <a:solidFill>
                  <a:srgbClr val="00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" name=""/>
          <p:cNvGrpSpPr/>
          <p:nvPr/>
        </p:nvGrpSpPr>
        <p:grpSpPr>
          <a:xfrm>
            <a:off x="4952880" y="3505320"/>
            <a:ext cx="301680" cy="2587680"/>
            <a:chOff x="4952880" y="3505320"/>
            <a:chExt cx="301680" cy="2587680"/>
          </a:xfrm>
        </p:grpSpPr>
        <p:grpSp>
          <p:nvGrpSpPr>
            <p:cNvPr id="121" name=""/>
            <p:cNvGrpSpPr/>
            <p:nvPr/>
          </p:nvGrpSpPr>
          <p:grpSpPr>
            <a:xfrm>
              <a:off x="4952880" y="3505320"/>
              <a:ext cx="301680" cy="1977840"/>
              <a:chOff x="4952880" y="3505320"/>
              <a:chExt cx="301680" cy="1977840"/>
            </a:xfrm>
          </p:grpSpPr>
          <p:sp>
            <p:nvSpPr>
              <p:cNvPr id="122" name=""/>
              <p:cNvSpPr/>
              <p:nvPr/>
            </p:nvSpPr>
            <p:spPr>
              <a:xfrm>
                <a:off x="4952880" y="3505320"/>
                <a:ext cx="301680" cy="13716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52880" y="487692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52880" y="5181480"/>
                <a:ext cx="301680" cy="30168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952880" y="5486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5791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257800" y="3200400"/>
            <a:ext cx="3654360" cy="301680"/>
            <a:chOff x="5257800" y="3200400"/>
            <a:chExt cx="3654360" cy="301680"/>
          </a:xfrm>
        </p:grpSpPr>
        <p:sp>
          <p:nvSpPr>
            <p:cNvPr id="128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1048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40:30Z</dcterms:created>
  <dc:creator>Mary</dc:creator>
  <dc:description/>
  <dc:language>en-US</dc:language>
  <cp:lastModifiedBy>Mary</cp:lastModifiedBy>
  <dcterms:modified xsi:type="dcterms:W3CDTF">2008-07-22T21:03:26Z</dcterms:modified>
  <cp:revision>4</cp:revision>
  <dc:subject/>
  <dc:title>Using Area Models for Factoring</dc:title>
</cp:coreProperties>
</file>